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gif" ContentType="image/gif"/>
  <Override PartName="/ppt/media/image19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1.png" ContentType="image/png"/>
  <Override PartName="/ppt/media/image24.jpeg" ContentType="image/jpeg"/>
  <Override PartName="/ppt/media/image22.png" ContentType="image/pn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8.jpeg" ContentType="image/jpeg"/>
  <Override PartName="/ppt/media/image29.jpeg" ContentType="image/jpeg"/>
  <Override PartName="/ppt/media/image35.jpeg" ContentType="image/jpeg"/>
  <Override PartName="/ppt/media/image10.jpeg" ContentType="image/jpeg"/>
  <Override PartName="/ppt/media/image30.jpeg" ContentType="image/jpeg"/>
  <Override PartName="/ppt/media/image33.jpeg" ContentType="image/jpeg"/>
  <Override PartName="/ppt/media/image27.jpeg" ContentType="image/jpeg"/>
  <Override PartName="/ppt/media/image36.png" ContentType="image/png"/>
  <Override PartName="/ppt/media/image42.png" ContentType="image/png"/>
  <Override PartName="/ppt/media/push.wav" ContentType="audio/x-wav"/>
  <Override PartName="/ppt/media/image9.png" ContentType="image/png"/>
  <Override PartName="/ppt/media/image39.png" ContentType="image/png"/>
  <Override PartName="/ppt/media/image43.jpeg" ContentType="image/jpeg"/>
  <Override PartName="/ppt/media/image31.jpeg" ContentType="image/jpeg"/>
  <Override PartName="/ppt/media/image4.jpeg" ContentType="image/jpeg"/>
  <Override PartName="/ppt/media/image45.jpeg" ContentType="image/jpeg"/>
  <Override PartName="/ppt/media/image11.jpeg" ContentType="image/jpeg"/>
  <Override PartName="/ppt/media/image5.jpeg" ContentType="image/jpeg"/>
  <Override PartName="/ppt/media/image25.jpeg" ContentType="image/jpeg"/>
  <Override PartName="/ppt/media/image32.png" ContentType="image/png"/>
  <Override PartName="/ppt/media/image34.png" ContentType="image/png"/>
  <Override PartName="/ppt/media/image12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whoosh.wav" ContentType="audio/x-wav"/>
  <Override PartName="/ppt/media/image28.jpeg" ContentType="image/jpe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708-3D58-48E5-957C-8F96C17D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D1E-2397-4A9C-83B5-FF4EB85C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996D-E3FB-4107-8C41-38582D0B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4EA-0AEE-4BFE-B53B-3641936B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085-D481-40A4-81A7-F3FB7035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202-BC4F-47AD-91AC-7AD76AC8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BE88-633E-4EA9-8748-BC465851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611-F0EA-4517-9756-9BF91755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4F1-999B-4A34-8EC6-44034067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6DED-604B-4BD3-8EC0-A7D7D6EA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A20-C646-4F33-A4F2-25464E2A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1C5-6463-4FDF-B05F-608CA31E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6A79-18EE-480A-96A2-5E32932CD0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hyperlink" Target="http://health.jschina.com.cn/gb/jschina/health/care/infant/userobject1ai413161.html" TargetMode="External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9640" y="1268280"/>
            <a:ext cx="82296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The  review of Unit one 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00000" y="3357720"/>
            <a:ext cx="685800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 </a:t>
            </a: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What's the matter ?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43280" y="4581360"/>
            <a:ext cx="720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have a fever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4592520" cy="4608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692400" y="3860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发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564000" y="2997360"/>
            <a:ext cx="590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have a col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4834080" cy="4969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249680" y="4194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感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7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9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90920" y="328464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have a toothach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 rot="240000">
            <a:off x="395280" y="836640"/>
            <a:ext cx="3619440" cy="5370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960600" y="4194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牙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997360"/>
            <a:ext cx="617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have a headach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3281400" cy="5113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460400" y="4076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头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1187280" y="907920"/>
            <a:ext cx="6840720" cy="5257800"/>
            <a:chOff x="1187280" y="907920"/>
            <a:chExt cx="6840720" cy="5257800"/>
          </a:xfrm>
        </p:grpSpPr>
        <p:pic>
          <p:nvPicPr>
            <p:cNvPr id="127" name="Picture 2" descr="C:\Documents and Settings\zzj\My Documents\My Pictures\花边\EJ085_L.jpg"/>
            <p:cNvPicPr/>
            <p:nvPr/>
          </p:nvPicPr>
          <p:blipFill>
            <a:blip r:embed="rId2"/>
            <a:stretch/>
          </p:blipFill>
          <p:spPr>
            <a:xfrm>
              <a:off x="1187280" y="907920"/>
              <a:ext cx="6840720" cy="52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3" descr="C:\Documents and Settings\zzj\My Documents\My Pictures\课件2\stomachache.jpg"/>
            <p:cNvPicPr/>
            <p:nvPr/>
          </p:nvPicPr>
          <p:blipFill>
            <a:blip r:embed="rId3"/>
            <a:stretch/>
          </p:blipFill>
          <p:spPr>
            <a:xfrm>
              <a:off x="3392280" y="2356200"/>
              <a:ext cx="2588760" cy="268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Text Box 5"/>
          <p:cNvSpPr/>
          <p:nvPr/>
        </p:nvSpPr>
        <p:spPr>
          <a:xfrm>
            <a:off x="1836000" y="189000"/>
            <a:ext cx="536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have a stomachac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1052640"/>
            <a:ext cx="14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胃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403280" y="1052640"/>
            <a:ext cx="6624720" cy="4968720"/>
            <a:chOff x="1403280" y="1052640"/>
            <a:chExt cx="6624720" cy="4968720"/>
          </a:xfrm>
        </p:grpSpPr>
        <p:pic>
          <p:nvPicPr>
            <p:cNvPr id="132" name="Picture 9" descr="C:\Documents and Settings\zzj\My Documents\My Pictures\花边\EJ085_L.jpg"/>
            <p:cNvPicPr/>
            <p:nvPr/>
          </p:nvPicPr>
          <p:blipFill>
            <a:blip r:embed="rId2"/>
            <a:stretch/>
          </p:blipFill>
          <p:spPr>
            <a:xfrm>
              <a:off x="1403280" y="1052640"/>
              <a:ext cx="6624720" cy="496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0" descr="C:\Documents and Settings\zzj\My Documents\My Pictures\课件2\earache.jpg"/>
            <p:cNvPicPr/>
            <p:nvPr/>
          </p:nvPicPr>
          <p:blipFill>
            <a:blip r:embed="rId3"/>
            <a:stretch/>
          </p:blipFill>
          <p:spPr>
            <a:xfrm>
              <a:off x="3567600" y="2294640"/>
              <a:ext cx="2318400" cy="253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Text Box 12"/>
          <p:cNvSpPr/>
          <p:nvPr/>
        </p:nvSpPr>
        <p:spPr>
          <a:xfrm>
            <a:off x="2362680" y="304920"/>
            <a:ext cx="438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an earac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49320" y="9810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耳朵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rst way of having a problem.</a:t>
            </a:r>
            <a:br>
              <a:rPr sz="4000"/>
            </a:br>
            <a:r>
              <a:rPr b="0" lang="en-US" sz="4000" spc="-1" strike="noStrike">
                <a:solidFill>
                  <a:srgbClr val="b327a9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b327a9"/>
                </a:solidFill>
                <a:latin typeface="Arial"/>
              </a:rPr>
              <a:t>患病”的三种表达方式之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256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I  have a +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疾病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3429000"/>
            <a:ext cx="59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  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What’s the matter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I have a cold/fev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5680" y="90756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econd way of having a problem.</a:t>
            </a:r>
            <a:br>
              <a:rPr sz="4000"/>
            </a:br>
            <a:r>
              <a:rPr b="0" lang="en-US" sz="4000" spc="-1" strike="noStrike">
                <a:solidFill>
                  <a:srgbClr val="b327a9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b327a9"/>
                </a:solidFill>
                <a:latin typeface="Arial"/>
              </a:rPr>
              <a:t>患病”的三种表达方式之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3213000"/>
            <a:ext cx="8229600" cy="30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What’s the matt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have aheadache/toothach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stomacha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61160" y="2421000"/>
            <a:ext cx="3840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I have a +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部位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+ache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仿宋_GB2312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hird way of having a problem.</a:t>
            </a:r>
            <a:br>
              <a:rPr sz="4000"/>
            </a:br>
            <a:r>
              <a:rPr b="0" lang="en-US" sz="4000" spc="-1" strike="noStrike">
                <a:solidFill>
                  <a:srgbClr val="b327a9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b327a9"/>
                </a:solidFill>
                <a:latin typeface="Arial"/>
              </a:rPr>
              <a:t>患病”的三种表达方式之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2637000"/>
            <a:ext cx="8229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What’s the matt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I have a sore throat/sore back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68360" y="2492280"/>
            <a:ext cx="39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仿宋_GB2312"/>
              </a:rPr>
              <a:t>    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I have a sore+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部位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仿宋_GB2312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195280" y="764640"/>
            <a:ext cx="4608720" cy="35931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6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Usefu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6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sentence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5694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教学目标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复习并掌握本单元的重点词汇，短语及句                    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教学重点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①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表达情感﹑疾病等词汇的听写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               ②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句型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What’s the matter with you?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及其答   语的的运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教学难点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表达情感，疾病的常用表达方法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掌握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62920" y="5562720"/>
            <a:ext cx="1676160" cy="838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380880" y="457200"/>
            <a:ext cx="2514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Inquir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533520"/>
            <a:ext cx="16761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  <a:ea typeface="华文行楷"/>
              </a:rPr>
              <a:t>(</a:t>
            </a:r>
            <a:r>
              <a:rPr b="1" i="1" lang="zh-CN" sz="4000" spc="-1" strike="noStrike">
                <a:solidFill>
                  <a:srgbClr val="000000"/>
                </a:solidFill>
                <a:latin typeface="Bookman Old Style"/>
                <a:ea typeface="华文行楷"/>
              </a:rPr>
              <a:t>询问 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  <a:ea typeface="华文行楷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95680" y="1828800"/>
            <a:ext cx="46483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What’s the matter with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3352680"/>
            <a:ext cx="4724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What’s wrong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4800600"/>
            <a:ext cx="4724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What’s the trouble with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0574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What’s the mat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3505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What’s wro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48006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What’s the trou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You should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You shouldn’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 lie down and rest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 take your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 see a dentist and get an X-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 drink some hot tea with honey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n’t exerc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5280" y="404640"/>
            <a:ext cx="2971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Give  advic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8" name=""/>
          <p:cNvSpPr/>
          <p:nvPr/>
        </p:nvSpPr>
        <p:spPr>
          <a:xfrm>
            <a:off x="4078800" y="47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给出建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743120" cy="1308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637000"/>
            <a:ext cx="1606320" cy="1118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948360" y="5300640"/>
            <a:ext cx="1865520" cy="1263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179280" y="4653000"/>
            <a:ext cx="1362240" cy="1606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1979640" y="4724280"/>
            <a:ext cx="1611360" cy="1873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4067280" y="4508640"/>
            <a:ext cx="2448000" cy="213660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2916360" y="1052640"/>
            <a:ext cx="5903640" cy="3240720"/>
            <a:chOff x="2916360" y="1052640"/>
            <a:chExt cx="5903640" cy="3240720"/>
          </a:xfrm>
        </p:grpSpPr>
        <p:sp>
          <p:nvSpPr>
            <p:cNvPr id="166" name=""/>
            <p:cNvSpPr/>
            <p:nvPr/>
          </p:nvSpPr>
          <p:spPr>
            <a:xfrm>
              <a:off x="2916360" y="1052640"/>
              <a:ext cx="5903640" cy="32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: What’s the matter with you/…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: I have a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: Maybe you should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: That’s a good id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I think s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48000" y="2781360"/>
              <a:ext cx="71640" cy="86508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 txBox="1"/>
          <p:nvPr/>
        </p:nvSpPr>
        <p:spPr>
          <a:xfrm>
            <a:off x="2627280" y="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ractic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9" name=""/>
          <p:cNvSpPr/>
          <p:nvPr/>
        </p:nvSpPr>
        <p:spPr>
          <a:xfrm>
            <a:off x="5499360" y="365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ff"/>
                </a:solidFill>
                <a:latin typeface="Arial"/>
                <a:ea typeface="仿宋_GB2312"/>
              </a:rPr>
              <a:t>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1525680" cy="180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500720" y="4653000"/>
            <a:ext cx="2376360" cy="2205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093080" y="4797360"/>
            <a:ext cx="1757160" cy="2060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324000" y="2492280"/>
            <a:ext cx="1674720" cy="180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2268360" y="4724280"/>
            <a:ext cx="2303640" cy="2133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rcRect l="0" t="0" r="0" b="10271"/>
          <a:stretch/>
        </p:blipFill>
        <p:spPr>
          <a:xfrm>
            <a:off x="324000" y="4724280"/>
            <a:ext cx="1469880" cy="1943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556000" y="1125360"/>
            <a:ext cx="626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: What’s the matter with…/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: He ha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: Maybe he shoul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: That’s a good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000" y="1773360"/>
            <a:ext cx="567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I am going to buy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9080" y="4292640"/>
            <a:ext cx="325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cause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4720" y="4292640"/>
            <a:ext cx="389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have a fever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 rot="20940000">
            <a:off x="6227640" y="1628640"/>
            <a:ext cx="2121120" cy="1317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250920" y="189000"/>
            <a:ext cx="237636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拓展练习：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77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770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6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68360" y="2133720"/>
            <a:ext cx="562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I am going to buy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6360" y="4076640"/>
            <a:ext cx="30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cause 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08720" y="4149720"/>
            <a:ext cx="502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have a sore throa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 rot="21120000">
            <a:off x="5866920" y="1628280"/>
            <a:ext cx="2305080" cy="1603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77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770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3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5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68360" y="2276640"/>
            <a:ext cx="549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I am going to buy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9080" y="4292640"/>
            <a:ext cx="30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cause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64720" y="4292640"/>
            <a:ext cx="515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have a head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ache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 rot="21240000">
            <a:off x="6012000" y="1773360"/>
            <a:ext cx="2447640" cy="1652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0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2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4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9640" y="2349360"/>
            <a:ext cx="542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I am going to bu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4720" y="4221000"/>
            <a:ext cx="315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cause I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3080" y="4149720"/>
            <a:ext cx="526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have a tooth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ache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 rot="21060000">
            <a:off x="6011640" y="1700280"/>
            <a:ext cx="2519280" cy="1546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55640" y="1989000"/>
            <a:ext cx="549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I am going to buy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0720" y="4076640"/>
            <a:ext cx="315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cause I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36000" y="407664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hurt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my le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 rot="660000">
            <a:off x="6659280" y="1484280"/>
            <a:ext cx="1452600" cy="194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8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0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2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FLOWER"/>
          <p:cNvPicPr/>
          <p:nvPr/>
        </p:nvPicPr>
        <p:blipFill>
          <a:blip r:embed="rId2"/>
          <a:stretch/>
        </p:blipFill>
        <p:spPr>
          <a:xfrm>
            <a:off x="0" y="228600"/>
            <a:ext cx="8915400" cy="6094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1550880" y="1557360"/>
            <a:ext cx="422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have a</a:t>
            </a:r>
            <a:r>
              <a:rPr b="1" lang="en-US" sz="4800" spc="-1" strike="noStrike" u="sng">
                <a:solidFill>
                  <a:srgbClr val="333399"/>
                </a:solidFill>
                <a:uFillTx/>
                <a:latin typeface="Times New Roman"/>
              </a:rPr>
              <a:t> bad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co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549080" y="3141720"/>
            <a:ext cx="46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have a </a:t>
            </a:r>
            <a:r>
              <a:rPr b="1" lang="en-US" sz="4800" spc="-1" strike="noStrike" u="sng">
                <a:solidFill>
                  <a:srgbClr val="333399"/>
                </a:solidFill>
                <a:uFillTx/>
                <a:latin typeface="Times New Roman"/>
              </a:rPr>
              <a:t>high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fe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6443640" y="1773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严重的感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6732720" y="3357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高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548720" y="4437000"/>
            <a:ext cx="338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be in a fe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6732720" y="4724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发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 rot="5400000">
            <a:off x="-1405080" y="188280"/>
            <a:ext cx="2808360" cy="3097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拓展提高：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68360" y="310680"/>
            <a:ext cx="4897440" cy="6311160"/>
          </a:xfrm>
          <a:prstGeom prst="downArrowCallout">
            <a:avLst>
              <a:gd name="adj1" fmla="val 25002"/>
              <a:gd name="adj2" fmla="val 25000"/>
              <a:gd name="adj3" fmla="val 21478"/>
              <a:gd name="adj4" fmla="val 6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Usefu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 </a:t>
            </a:r>
            <a:r>
              <a:rPr b="1" lang="en-US" sz="6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word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79280" y="404640"/>
            <a:ext cx="1873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神医义诊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340000" y="404640"/>
            <a:ext cx="6192720" cy="2494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Name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Tina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　　    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Age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Symptoms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（症状）：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tired,stessed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Reason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（原因）：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exam,stay up(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熬夜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，     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hardly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Advice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（建议）：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79640" y="3213000"/>
            <a:ext cx="80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na is a student of Green High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 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45813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8920" y="515772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573408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trips dir="ld"/>
    <p:sndAc>
      <p:stSnd>
        <p:snd r:embed="rId2" name="whoo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130480" y="476280"/>
            <a:ext cx="4362480" cy="5472000"/>
          </a:xfrm>
          <a:prstGeom prst="rect">
            <a:avLst/>
          </a:prstGeom>
          <a:ln w="0">
            <a:noFill/>
          </a:ln>
        </p:spPr>
      </p:pic>
      <p:cxnSp>
        <p:nvCxnSpPr>
          <p:cNvPr id="47" name=""/>
          <p:cNvCxnSpPr/>
          <p:nvPr/>
        </p:nvCxnSpPr>
        <p:spPr>
          <a:xfrm>
            <a:off x="2058840" y="1988640"/>
            <a:ext cx="93600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/>
          <p:nvPr/>
        </p:nvCxnSpPr>
        <p:spPr>
          <a:xfrm flipV="1">
            <a:off x="4001760" y="549000"/>
            <a:ext cx="649800" cy="98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/>
          <p:nvPr/>
        </p:nvCxnSpPr>
        <p:spPr>
          <a:xfrm>
            <a:off x="4651200" y="2852280"/>
            <a:ext cx="187272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/>
          <p:nvPr/>
        </p:nvCxnSpPr>
        <p:spPr>
          <a:xfrm>
            <a:off x="4362480" y="5013000"/>
            <a:ext cx="2448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/>
          <p:nvPr/>
        </p:nvCxnSpPr>
        <p:spPr>
          <a:xfrm flipH="1" flipV="1">
            <a:off x="1913760" y="4149360"/>
            <a:ext cx="166140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/>
          <p:nvPr/>
        </p:nvCxnSpPr>
        <p:spPr>
          <a:xfrm flipH="1" flipV="1">
            <a:off x="1913760" y="3357360"/>
            <a:ext cx="215172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/>
          <p:nvPr/>
        </p:nvCxnSpPr>
        <p:spPr>
          <a:xfrm flipV="1">
            <a:off x="4938480" y="1051920"/>
            <a:ext cx="1440360" cy="9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/>
          <p:nvPr/>
        </p:nvCxnSpPr>
        <p:spPr>
          <a:xfrm flipV="1">
            <a:off x="4362480" y="2276280"/>
            <a:ext cx="216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/>
          <p:nvPr/>
        </p:nvCxnSpPr>
        <p:spPr>
          <a:xfrm flipH="1">
            <a:off x="2689920" y="4508640"/>
            <a:ext cx="1729800" cy="1729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" name=""/>
          <p:cNvSpPr/>
          <p:nvPr/>
        </p:nvSpPr>
        <p:spPr>
          <a:xfrm>
            <a:off x="1339200" y="155736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5200" y="3068640"/>
            <a:ext cx="102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560" y="38606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66960" y="587700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56280" y="53737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90840" y="18900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8640" y="76500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76480" y="190800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76840" y="248292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/>
          <p:nvPr/>
        </p:nvCxnSpPr>
        <p:spPr>
          <a:xfrm>
            <a:off x="4290480" y="2924280"/>
            <a:ext cx="201708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"/>
          <p:cNvSpPr/>
          <p:nvPr/>
        </p:nvSpPr>
        <p:spPr>
          <a:xfrm>
            <a:off x="6432480" y="34196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/>
          <p:nvPr/>
        </p:nvCxnSpPr>
        <p:spPr>
          <a:xfrm>
            <a:off x="2058480" y="2707920"/>
            <a:ext cx="1585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"/>
          <p:cNvSpPr/>
          <p:nvPr/>
        </p:nvSpPr>
        <p:spPr>
          <a:xfrm>
            <a:off x="1051920" y="227664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/>
          <p:nvPr/>
        </p:nvCxnSpPr>
        <p:spPr>
          <a:xfrm flipH="1" flipV="1">
            <a:off x="4577760" y="3715920"/>
            <a:ext cx="18738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6553440" y="4191120"/>
            <a:ext cx="17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/>
          <p:nvPr/>
        </p:nvCxnSpPr>
        <p:spPr>
          <a:xfrm flipV="1">
            <a:off x="1843200" y="4149360"/>
            <a:ext cx="252000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2" name=""/>
          <p:cNvSpPr/>
          <p:nvPr/>
        </p:nvSpPr>
        <p:spPr>
          <a:xfrm>
            <a:off x="762480" y="508464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76280"/>
            <a:ext cx="37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Where’s his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eck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48720" y="5334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fe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3429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tee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26920" y="189000"/>
            <a:ext cx="3875400" cy="17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Comic Sans MS"/>
              </a:rPr>
              <a:t>Memory gam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7" name="Picture 4" descr="2007102015135183400b"/>
          <p:cNvPicPr/>
          <p:nvPr/>
        </p:nvPicPr>
        <p:blipFill>
          <a:blip r:embed="rId2"/>
          <a:stretch/>
        </p:blipFill>
        <p:spPr>
          <a:xfrm>
            <a:off x="4716360" y="184464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1066488_aa7a4eebb6_t"/>
          <p:cNvPicPr/>
          <p:nvPr/>
        </p:nvPicPr>
        <p:blipFill>
          <a:blip r:embed="rId3"/>
          <a:stretch/>
        </p:blipFill>
        <p:spPr>
          <a:xfrm>
            <a:off x="6908760" y="1844640"/>
            <a:ext cx="2127240" cy="287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2238dba4355863e29152ee60"/>
          <p:cNvPicPr/>
          <p:nvPr/>
        </p:nvPicPr>
        <p:blipFill>
          <a:blip r:embed="rId4"/>
          <a:stretch/>
        </p:blipFill>
        <p:spPr>
          <a:xfrm>
            <a:off x="179280" y="1844640"/>
            <a:ext cx="2278080" cy="2879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ae882c1b2c3101e8af5133c6"/>
          <p:cNvPicPr/>
          <p:nvPr/>
        </p:nvPicPr>
        <p:blipFill>
          <a:blip r:embed="rId5"/>
          <a:stretch/>
        </p:blipFill>
        <p:spPr>
          <a:xfrm>
            <a:off x="2500200" y="1844640"/>
            <a:ext cx="2214720" cy="2881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mouth"/>
          <p:cNvPicPr/>
          <p:nvPr/>
        </p:nvPicPr>
        <p:blipFill>
          <a:blip r:embed="rId6"/>
          <a:stretch/>
        </p:blipFill>
        <p:spPr>
          <a:xfrm>
            <a:off x="2556000" y="2852640"/>
            <a:ext cx="2376360" cy="2737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eye 2"/>
          <p:cNvPicPr/>
          <p:nvPr/>
        </p:nvPicPr>
        <p:blipFill>
          <a:blip r:embed="rId7"/>
          <a:stretch/>
        </p:blipFill>
        <p:spPr>
          <a:xfrm>
            <a:off x="395280" y="2854440"/>
            <a:ext cx="2376360" cy="2730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38"/>
          <p:cNvPicPr/>
          <p:nvPr/>
        </p:nvPicPr>
        <p:blipFill>
          <a:blip r:embed="rId8"/>
          <a:stretch/>
        </p:blipFill>
        <p:spPr>
          <a:xfrm>
            <a:off x="4572000" y="2852640"/>
            <a:ext cx="2303640" cy="2737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34734534715"/>
          <p:cNvPicPr/>
          <p:nvPr/>
        </p:nvPicPr>
        <p:blipFill>
          <a:blip r:embed="rId9"/>
          <a:stretch/>
        </p:blipFill>
        <p:spPr>
          <a:xfrm>
            <a:off x="6516720" y="2849400"/>
            <a:ext cx="2374920" cy="2751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meinvtp_146b"/>
          <p:cNvPicPr/>
          <p:nvPr/>
        </p:nvPicPr>
        <p:blipFill>
          <a:blip r:embed="rId10"/>
          <a:stretch/>
        </p:blipFill>
        <p:spPr>
          <a:xfrm>
            <a:off x="684360" y="1916280"/>
            <a:ext cx="2782800" cy="324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胃"/>
          <p:cNvPicPr/>
          <p:nvPr/>
        </p:nvPicPr>
        <p:blipFill>
          <a:blip r:embed="rId11"/>
          <a:stretch/>
        </p:blipFill>
        <p:spPr>
          <a:xfrm>
            <a:off x="3924360" y="3141720"/>
            <a:ext cx="2635200" cy="324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6084720" y="260280"/>
            <a:ext cx="2874960" cy="3241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9440" y="2925720"/>
            <a:ext cx="8928360" cy="3481200"/>
          </a:xfrm>
          <a:prstGeom prst="rect">
            <a:avLst/>
          </a:prstGeom>
          <a:solidFill>
            <a:srgbClr val="ffffff"/>
          </a:solidFill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m    ___ back   ___ ear     ___ eye     ___  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 hand    ___ head     ___ leg      ___ m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 neck    ___ nose      ___stomach     ___ to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28760" y="3068640"/>
            <a:ext cx="533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57560" y="3068640"/>
            <a:ext cx="533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81800" y="3068640"/>
            <a:ext cx="457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05680" y="3144960"/>
            <a:ext cx="533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6280" y="4221000"/>
            <a:ext cx="45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52800" y="4221000"/>
            <a:ext cx="53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9080" y="4221000"/>
            <a:ext cx="38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29440" y="4221000"/>
            <a:ext cx="30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5373720"/>
            <a:ext cx="380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5302080"/>
            <a:ext cx="457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29080" y="5373720"/>
            <a:ext cx="38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 rot="10740000">
            <a:off x="6803640" y="5372640"/>
            <a:ext cx="38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0924" t="9230" r="1156" b="45717"/>
          <a:stretch/>
        </p:blipFill>
        <p:spPr>
          <a:xfrm>
            <a:off x="0" y="0"/>
            <a:ext cx="9144000" cy="292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blinds dir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195280" y="764640"/>
            <a:ext cx="4608720" cy="35931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6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Usefu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6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phras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rcRect l="20924" t="9230" r="1156" b="45717"/>
          <a:stretch/>
        </p:blipFill>
        <p:spPr>
          <a:xfrm>
            <a:off x="0" y="0"/>
            <a:ext cx="9144000" cy="4005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rcRect l="3489" t="68838" r="0" b="19178"/>
          <a:stretch/>
        </p:blipFill>
        <p:spPr>
          <a:xfrm>
            <a:off x="0" y="393372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195640" y="49417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5516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92360" y="5589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4869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48000" y="62164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the matter with Nanc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50920" y="508464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9964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932440" y="1197000"/>
            <a:ext cx="3362400" cy="4753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242100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have a sore throa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99880" y="3357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嗓子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王澜凝</cp:lastModifiedBy>
  <cp:lastPrinted>1899-12-30T00:00:00Z</cp:lastPrinted>
  <dcterms:modified xsi:type="dcterms:W3CDTF">2015-03-02T03:02:16Z</dcterms:modified>
  <cp:revision>2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